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CA5-964F-43D6-B3BF-CF139C6D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128-239F-4011-8C86-47E4CDD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8F94F-5BCE-47ED-A968-38F4E3F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F7688-0347-4A54-A2E9-E285CA77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42367-2726-4BAE-8122-741EDF0A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A787-EFF1-49F4-B386-7B79822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AA246-5B79-4888-A8A0-D19D6F8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EF73-EBF7-478E-84AB-34F6C0B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28A6-D3EB-4638-B2E4-7319D70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55D39-1E68-4678-B669-C77F99AC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28D35-3059-4BAF-959F-BF4DCD0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3F57-6A00-4B5A-AF4F-C3FFA221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512-F739-4965-B578-F9F635E6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5B48-2BA8-4820-BC72-097D27E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8D6F4-DD6D-462C-B2D1-E1DD717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44122-288B-463C-BEC3-F8DFD69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94B90-BFC7-4965-80E3-B827EEF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2E795-4BD7-4BE1-9775-B208EF2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19D8A-8716-4380-B7E5-C26FBA6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CA796-CACA-4D39-BF78-85DC9E9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E9808-74A5-45C8-915D-61415EE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3AB36-32A8-4707-89F8-4C34338E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93B53-F70C-4771-A80F-517B0E27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931-07C7-4F65-8C54-FF65D791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37CCE-CFB7-42FF-A7A1-58037F51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FC71-914D-4B78-A76F-81DD958F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59D4F-E7B4-46D1-9941-FF0FF5E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E6626-B253-4BCB-9A74-4533E79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939C-DF9B-4E5F-8E55-265EF84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6811-FF55-4AB5-9B3B-3F5A8A7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AA31D-CD32-4EDD-8FD0-491EEB53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E07D7-95EC-4665-9BEA-E78B5C9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3BF8B-2732-4093-86C5-2346EB9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8990-2F78-456A-999C-C1EF9A3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CAD2-C166-4938-AE57-F1FC2C14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B05C5-9EDE-453D-BADC-F0213786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9C7F-7E1A-445B-A76D-A5081846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1A01-8DD0-418D-A817-65F8145F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8F74C-5EBB-47DB-98D9-317F3F46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47BA8-639A-4AD2-9D8A-7F07FB0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15BF3-FA52-4C57-B564-3BE4607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A931-6AFC-4F1F-908A-CD4FDAB4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253A1-A609-4C25-A9ED-6ECCCD2D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C4620-426D-4D1D-99B4-3C075A3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0A973-C119-471D-BB99-86B8582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48D-62E2-42B7-B708-583741D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A14DB-D6A2-4B02-B48E-C42BEA5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9BF5E-AC17-420B-9AC2-F077213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30EFA-35C6-4F0F-96C0-61C7295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C43A4-1DC3-4AF8-860E-D312EDB4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EE716-430E-400C-8D74-DEF61627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724-D5D3-456D-8CE1-3C31FD1E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33C-8FB9-491E-B434-D95643B4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C626-9F23-4459-B3B4-56FB49F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CC9-0A65-4A4B-8D02-AF3F2083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5385-99C9-4E9D-BEDD-611052E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617-25DD-4ED9-A845-68143BFD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7A5E-44DF-43BD-9B36-40B36B7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8B6E-3B45-43CC-8961-6CF3BE1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241E-7625-4E50-BA9D-D173DC5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084-3543-4C94-AD99-CC022CD9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59BD-4565-48F2-90F5-20ECA3BC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C1BF-87DC-4237-B7DF-0EE17600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92C8-B45F-4EB6-8B60-5E5A1BE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CC52-76D0-4119-8713-5DCDA47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5818-1FB6-4EF2-A5E3-04157C3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D309-F34B-4C0B-8347-86E9A19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55F-601A-4639-86B1-B0C1FF9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2051-5BBB-4DEA-A369-CFC49D8F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C4CD-B5F4-4957-9803-BD71B10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7DBE-D13A-4060-B013-57E3BEA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71AA-519E-47BD-A04E-0A770D7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E14C-72AB-4C06-824E-867D3DF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E4B1-063F-48EE-8883-A0728037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61F4-824A-46D9-8CE9-2AFB59ED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B7E5-B501-4ED3-AA8B-535E3FC2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D96D-6E6B-4BB1-AEF6-66C348D4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31A1-48DC-4B06-B08F-B91FAD4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B1D-EE3A-4FCD-BAA2-E6B1D9F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4E91-9CEC-424F-A74B-485EAA6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056B-B0A5-4CA8-88CE-F6DBCE33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89CA-5A34-4353-8E61-87492A9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4FCB-9CF7-44F7-9578-FE138D7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7F55-AACE-4ECD-9926-4471813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6281-605F-4B23-AB29-873F52A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21BF-1DDB-4EB8-BECD-4BA777D6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2123-AF79-4643-905D-9B05296F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25F5-D8CB-4FA4-A107-06643949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05B0-4428-476F-B069-DC6A3E43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543-48F8-4E6D-B3B6-6A6912D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D796-5416-45CE-B17C-4E5F71B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80C6-68AF-4C42-8ED0-68DA7CA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230C-640D-43D3-B2C8-DA72F299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CA0D-6ABF-43DC-9A1B-59F29AEB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35E2-86C8-464D-B3A6-EDFA224B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A7BD-37ED-411A-AF0D-6252A96E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7D20-7861-4E3C-A4A9-E3018C6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CFA52-703F-486F-B2C6-6185231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D89B-C344-4926-9652-E272E1C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0A28-2093-492F-80C5-BD272E25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168-4A74-4BBC-AF25-B2385B5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39AA-ADE1-4B09-A3E4-FA89A111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6ABA4-CC70-440E-A5B8-C6774806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7E51B-01B3-40F7-873A-65FB334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6D79-1B04-493D-B972-10CEDB90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74B6E-07B1-412A-B415-4296EAA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34D7-7D5E-4648-883A-15E58F7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9648-9AE7-4B04-8D03-682A73C4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3539D-B3B8-4DC5-9A54-AB13412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4941-854D-434B-95A3-921F8EE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88E0-6084-4CA1-996E-E5343AC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E82-F42E-4FDD-B9FD-3EBEC87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B1250-282E-4A38-AA94-8E980DB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CC409-D775-48D2-A638-6E77B9F0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2D82-38ED-4B1A-A732-1C7D9B3E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F827-DE4F-4D24-A420-8A53E66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BC2E-7AA7-4933-A6FB-9E1A26F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0490-079E-4CEB-B377-73E17AC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982D-102B-4965-9720-2E89990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1582-88BD-4A09-BA59-2698B31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98CA-54EE-409E-B118-9B5AFF4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F954-85D1-4C43-ACBA-2123AAF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A48-8767-4E94-87EF-EEB4DF8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1CC7-06FE-4881-8D09-6DE7D23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D8B0-2501-489E-87C7-6930F10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5332D-7A72-407C-BC29-F164F18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BA51C-A5F5-4C5E-8812-171845D6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9EAD-74CF-409D-AB38-EB852D14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B392-3F36-4A65-825B-C509D26F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1E3F-D018-445A-BC20-083DEDD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6413-3A96-4A30-945D-4FDF166A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F1CAA-C5C4-4229-A0D9-46C4786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8B18-6B4E-4740-A82F-1F184436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2CD-E9BC-4798-8BCE-0E6AB56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1C18-55A1-426D-BD0D-C5EA0AC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E42C7-8621-49EF-A365-76AD65C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5E210-E6A3-458A-8F05-5F7AE278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D26D-A9C7-4C83-98A8-BE5BECD1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D280-CBDE-4F53-B80C-FD31759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C182-56F6-41A7-B242-6247AE25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B45E-0137-4184-8826-093E4C30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1E571-902F-4380-88E2-9513AB88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8FA39-15CF-44E7-A17B-2332AF3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98CA2-58FB-412A-A870-72CE243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507-84A0-427D-8A18-B3D4AAE791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A4BB-2591-4EBF-A005-0952F189FA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5BC-73FC-492D-B155-DABAABC093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128-7D20-45E9-9DBD-9A08490CBA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F999-6939-43AF-927C-DCEBCDBDF0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3EA-024D-4670-8190-9A6F2369A2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750-427D-4B9B-A30D-78179B59AA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223-BDF6-4F0C-A611-7EA93564C4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CC32-9735-4AD8-BA4D-758E527476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5197-C176-4815-9628-C6BDA960A9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3E2-CB05-4711-B9AD-88A470202A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32FB-E04E-4B6C-924B-5B41B78A5A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 Na tvoje diela, Bož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dí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ilosť tv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úť sa môž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rukou spá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golgotský je kr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miluješ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otivý Bož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veriť, že 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ny od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opriavaš, sa k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 tvoj už prí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, ako sľúb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sa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tedy vít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ho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e die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, keď sa dí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mocným slo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sne stvo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ý obdi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nezakrý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ti vz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m nadše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vitnúcou lú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vždy prechádza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táčí spe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 k uchu zaliet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chvátiť vie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ehká, nežná kr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ej je múdr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a ukry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13:06Z</dcterms:modified>
  <cp:revision>17</cp:revision>
  <dc:subject/>
  <dc:title>Je veľký náš Pán, on slávy je Kráľ Nech do všetkých strán  spev vrúcnych znie chvál.</dc:title>
</cp:coreProperties>
</file>